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1976-8282-4E1E-9472-728996004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62E8-C6D8-4FF4-ADC8-7F367FAC93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E24F-EA8C-427D-82B5-C5803BB17F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AFC2-D983-4C79-91F6-E89E09CB20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BB3F-2346-4A75-B5BB-AD3991B0AA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7EBC-92B0-459D-89C3-E0424FB36B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14BC-4DE8-4744-9CEC-244A011C5D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7F7E-FECC-4A9A-9DB2-6C524D3A3A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B466-E1DC-48BF-8FD2-96DE6F0085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8DB9-8149-4C92-87A5-A714EF955E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F43D-169C-426C-924A-36981C28AD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560D-A0C8-4981-B862-D92685C27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24B9-6AB3-4FDF-9AD1-1DFE9227F8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D136-7F9D-44DA-8B89-B5C1878FC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252C-A728-4DA8-8E52-EBCBD57FCA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2212-E738-4F0F-BB99-4A939AFD7E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00AE-D485-4150-8B8C-0690EFA51F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A04F-BBB3-4B99-A8E9-5B955560FC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7AE8-5F46-4207-B18D-FD5D6997B1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6205-DF67-4BBC-A92A-57E15D15FD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2F6C-D739-4105-91DE-FED95E737A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FC8F-883D-4714-B99F-870908F6C6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B4E0-B251-45BD-8878-C1E1EA5E83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A721-C179-4DAF-BA20-AC8C44497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1EEA-4A30-4EF5-A797-BD3A47CF11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7967-90F2-4688-A1A1-E0D0BCD6CD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0865-35EB-4F9D-91B3-BCFBFEF973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55EA-B5DD-4144-A5AE-4380D940A9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6D98-80E7-41EA-A642-17BBCED18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0322-4CF4-4B0B-9ACA-9F34328469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492A-228E-4812-9C8D-E2F60BD629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AA4A-DAD0-403A-A090-59AAD755D4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AB815-8A77-4F11-B5F3-FA75F0BCFE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F898-9216-447E-8D2E-5E08DE4C43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CC73-7969-4811-941E-1359E8AF8E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F084E-A471-451A-ABE2-0EDA72223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FDBD-687A-426B-8AD5-B7EF0C9F77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3ED1-0840-4F3D-B0A2-E2316A4DF2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FEE45-6966-49AC-B05E-B0410ED2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B8C47-3648-4015-BCD1-CD6176E08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42CD3-D21E-4D57-B701-98723EF09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799DD-7FC7-4234-A924-7F6060857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CF499-36F3-40F4-BB6F-CE81C7FDE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E821D-3771-4173-9CC3-EFA81A575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C0310-ABA4-4C4E-AFEB-4874358F4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73F3-5849-4381-9EB7-4E69C43D1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FD704-200E-43BF-8B18-B436390E1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917E-B384-4986-B9E2-451D617B0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66CB6-A8EE-439C-9E3C-9813D5FCC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71C2D-2458-49C0-A7BF-BDB654255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4EB8-EDF0-4831-AC50-10A9640033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1d1cb"/>
                </a:solidFill>
                <a:latin typeface="Arial"/>
              </a:rPr>
              <a:t>One Flew Over the Cuckoo’s Nest</a:t>
            </a:r>
            <a:endParaRPr b="0" lang="en-US" sz="4400" spc="-1" strike="noStrike">
              <a:solidFill>
                <a:srgbClr val="d1d1cb"/>
              </a:solidFill>
              <a:latin typeface="Arial"/>
            </a:endParaRPr>
          </a:p>
        </p:txBody>
      </p:sp>
      <p:sp>
        <p:nvSpPr>
          <p:cNvPr id="49" name="PlaceHolder 2"/>
          <p:cNvSpPr>
            <a:spLocks noGrp="1"/>
          </p:cNvSpPr>
          <p:nvPr>
            <p:ph type="subTitle"/>
          </p:nvPr>
        </p:nvSpPr>
        <p:spPr>
          <a:xfrm>
            <a:off x="1403280" y="3213000"/>
            <a:ext cx="6400800" cy="2160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A presentation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M Schuyl</a:t>
            </a:r>
            <a:endParaRPr b="0" lang="en-US" sz="32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Nayland College English Dep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Compare the lighting and colour in the hospital with the fishing trip</a:t>
            </a: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PDVD_013"/>
          <p:cNvPicPr/>
          <p:nvPr/>
        </p:nvPicPr>
        <p:blipFill>
          <a:blip r:embed="rId1"/>
          <a:stretch/>
        </p:blipFill>
        <p:spPr>
          <a:xfrm>
            <a:off x="914400" y="274680"/>
            <a:ext cx="73152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billy bus"/>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PDVD_018"/>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boats"/>
          <p:cNvPicPr/>
          <p:nvPr/>
        </p:nvPicPr>
        <p:blipFill>
          <a:blip r:embed="rId1"/>
          <a:stretch/>
        </p:blipFill>
        <p:spPr>
          <a:xfrm>
            <a:off x="914400" y="274680"/>
            <a:ext cx="7315200" cy="585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barbed fenc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circles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chief wire fenc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ifejackets"/>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unstrapping"/>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Mac"/>
          <p:cNvPicPr/>
          <p:nvPr/>
        </p:nvPicPr>
        <p:blipFill>
          <a:blip r:embed="rId1"/>
          <a:stretch/>
        </p:blipFill>
        <p:spPr>
          <a:xfrm>
            <a:off x="250920" y="1916280"/>
            <a:ext cx="4381560" cy="4368600"/>
          </a:xfrm>
          <a:prstGeom prst="rect">
            <a:avLst/>
          </a:prstGeom>
          <a:ln w="0">
            <a:noFill/>
          </a:ln>
        </p:spPr>
      </p:pic>
      <p:sp>
        <p:nvSpPr>
          <p:cNvPr id="51" name="PlaceHolder 1"/>
          <p:cNvSpPr>
            <a:spLocks noGrp="1"/>
          </p:cNvSpPr>
          <p:nvPr>
            <p:ph type="title"/>
          </p:nvPr>
        </p:nvSpPr>
        <p:spPr>
          <a:xfrm>
            <a:off x="323640" y="404640"/>
            <a:ext cx="828036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UCKOO’S NEST</a:t>
            </a:r>
            <a:endParaRPr b="0" lang="en-US" sz="7200" spc="-1" strike="noStrike">
              <a:solidFill>
                <a:srgbClr val="d1d1cb"/>
              </a:solidFill>
              <a:latin typeface="Arial"/>
            </a:endParaRPr>
          </a:p>
        </p:txBody>
      </p:sp>
      <p:sp>
        <p:nvSpPr>
          <p:cNvPr id="52" name="PlaceHolder 2"/>
          <p:cNvSpPr>
            <a:spLocks noGrp="1"/>
          </p:cNvSpPr>
          <p:nvPr>
            <p:ph type="subTitle"/>
          </p:nvPr>
        </p:nvSpPr>
        <p:spPr>
          <a:xfrm>
            <a:off x="4859280" y="2781360"/>
            <a:ext cx="3889440" cy="273528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LIGHTING AND COLOUR</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open sea"/>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PDVD_014"/>
          <p:cNvPicPr/>
          <p:nvPr/>
        </p:nvPicPr>
        <p:blipFill>
          <a:blip r:embed="rId1"/>
          <a:stretch/>
        </p:blipFill>
        <p:spPr>
          <a:xfrm>
            <a:off x="684360" y="457200"/>
            <a:ext cx="806436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d1d1cb"/>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Arial"/>
            </a:endParaRPr>
          </a:p>
        </p:txBody>
      </p:sp>
      <p:pic>
        <p:nvPicPr>
          <p:cNvPr id="76" name="Picture 4" descr="on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wire walls"/>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d1d1cb"/>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ffffff"/>
              </a:solidFill>
              <a:latin typeface="Arial"/>
            </a:endParaRPr>
          </a:p>
        </p:txBody>
      </p:sp>
      <p:pic>
        <p:nvPicPr>
          <p:cNvPr id="80" name="Picture 4" descr="PDVD_033"/>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arding wire wall"/>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red light 2"/>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redlight 3"/>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Hospital</a:t>
            </a:r>
            <a:endParaRPr b="0" lang="en-US" sz="7200" spc="-1" strike="noStrike">
              <a:solidFill>
                <a:srgbClr val="d1d1cb"/>
              </a:solidFill>
              <a:latin typeface="Arial"/>
            </a:endParaRPr>
          </a:p>
        </p:txBody>
      </p:sp>
      <p:sp>
        <p:nvSpPr>
          <p:cNvPr id="85" name="PlaceHolder 2"/>
          <p:cNvSpPr>
            <a:spLocks noGrp="1"/>
          </p:cNvSpPr>
          <p:nvPr>
            <p:ph/>
          </p:nvPr>
        </p:nvSpPr>
        <p:spPr>
          <a:xfrm>
            <a:off x="468360" y="1341360"/>
            <a:ext cx="8229600" cy="4525920"/>
          </a:xfrm>
          <a:prstGeom prst="rect">
            <a:avLst/>
          </a:prstGeom>
          <a:noFill/>
          <a:ln w="0">
            <a:noFill/>
          </a:ln>
        </p:spPr>
        <p:txBody>
          <a:bodyPr anchor="t">
            <a:normAutofit fontScale="92000"/>
          </a:bodyPr>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itutionalised, fluorescent lighting – generally harsh and white/off white = controlled and artificial. Note the warning red light above the door Nurse R enters</a:t>
            </a:r>
            <a:endParaRPr b="0" lang="en-US" sz="3600" spc="-1" strike="noStrike">
              <a:solidFill>
                <a:srgbClr val="ffffff"/>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te uniforms = conformity, sterility.</a:t>
            </a:r>
            <a:endParaRPr b="0" lang="en-US" sz="3600" spc="-1" strike="noStrike">
              <a:solidFill>
                <a:srgbClr val="ffffff"/>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ighttimes inside. Shadows of people strapped to bed, wire over windows – side light = cold shadowy fac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404640"/>
            <a:ext cx="896472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d1d1cb"/>
                </a:solidFill>
                <a:latin typeface="Arial"/>
              </a:rPr>
              <a:t>Fishing trip</a:t>
            </a:r>
            <a:br>
              <a:rPr sz="6800"/>
            </a:br>
            <a:r>
              <a:rPr b="0" lang="en-US" sz="6800" spc="-1" strike="noStrike">
                <a:solidFill>
                  <a:srgbClr val="d1d1cb"/>
                </a:solidFill>
                <a:latin typeface="Arial"/>
              </a:rPr>
              <a:t>(Bus and boat trip</a:t>
            </a:r>
            <a:r>
              <a:rPr b="0" lang="en-US" sz="4000" spc="-1" strike="noStrike">
                <a:solidFill>
                  <a:srgbClr val="d1d1cb"/>
                </a:solidFill>
                <a:latin typeface="Arial"/>
              </a:rPr>
              <a:t>)</a:t>
            </a:r>
            <a:endParaRPr b="0" lang="en-US" sz="4000" spc="-1" strike="noStrike">
              <a:solidFill>
                <a:srgbClr val="d1d1cb"/>
              </a:solidFill>
              <a:latin typeface="Arial"/>
            </a:endParaRPr>
          </a:p>
        </p:txBody>
      </p:sp>
      <p:sp>
        <p:nvSpPr>
          <p:cNvPr id="87" name="PlaceHolder 2"/>
          <p:cNvSpPr>
            <a:spLocks noGrp="1"/>
          </p:cNvSpPr>
          <p:nvPr>
            <p:ph/>
          </p:nvPr>
        </p:nvSpPr>
        <p:spPr>
          <a:xfrm>
            <a:off x="179280" y="1916280"/>
            <a:ext cx="8569440" cy="4681440"/>
          </a:xfrm>
          <a:prstGeom prst="rect">
            <a:avLst/>
          </a:prstGeom>
          <a:noFill/>
          <a:ln w="0">
            <a:noFill/>
          </a:ln>
        </p:spPr>
        <p:txBody>
          <a:bodyPr anchor="t">
            <a:normAutofit fontScale="98000"/>
          </a:bodyPr>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ight sunshine, blue sky, lots of colours</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rything stands out, natural light full key lighting</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ured clothing, orange life-jackets</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freedom, real world, uncontrolled, chaotic, unpredictable random environment.</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125360"/>
            <a:ext cx="7391520" cy="46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Lighting </a:t>
            </a:r>
            <a:r>
              <a:rPr b="0" lang="en-US" sz="4400" spc="-1" strike="noStrike">
                <a:solidFill>
                  <a:srgbClr val="ffffff"/>
                </a:solidFill>
                <a:latin typeface="Arial"/>
              </a:rPr>
              <a:t> and </a:t>
            </a:r>
            <a:r>
              <a:rPr b="0" lang="en-US" sz="4400" spc="-1" strike="noStrike" u="sng">
                <a:solidFill>
                  <a:srgbClr val="ffffff"/>
                </a:solidFill>
                <a:uFillTx/>
                <a:latin typeface="Arial"/>
              </a:rPr>
              <a:t>Colour</a:t>
            </a:r>
            <a:r>
              <a:rPr b="0" lang="en-US" sz="4400" spc="-1" strike="noStrike">
                <a:solidFill>
                  <a:srgbClr val="ffffff"/>
                </a:solidFill>
                <a:latin typeface="Arial"/>
              </a:rPr>
              <a:t> become significant when there are links or contrasts in particular scenes</a:t>
            </a:r>
            <a:r>
              <a:rPr b="0" lang="en-US" sz="4400" spc="-1" strike="noStrike">
                <a:solidFill>
                  <a:srgbClr val="d1d1cb"/>
                </a:solidFill>
                <a:latin typeface="Arial"/>
              </a:rPr>
              <a:t> </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204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Compare the end of the fishing trip with the start</a:t>
            </a: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going out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 name="Picture 5" descr="coming in boat"/>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1d1cb"/>
                </a:solidFill>
                <a:latin typeface="Arial"/>
              </a:rPr>
              <a:t>End of fishing trip</a:t>
            </a:r>
            <a:endParaRPr b="0" lang="en-US" sz="7200" spc="-1" strike="noStrike">
              <a:solidFill>
                <a:srgbClr val="d1d1cb"/>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ey sk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dow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lours now muted shades of gre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my looking</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returning to controlled environment – metaphoric storm brew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Compare the death of Billy with the death of Mac</a:t>
            </a:r>
            <a:endParaRPr b="0" lang="en-US" sz="5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biily dead"/>
          <p:cNvPicPr/>
          <p:nvPr/>
        </p:nvPicPr>
        <p:blipFill>
          <a:blip r:embed="rId1"/>
          <a:stretch/>
        </p:blipFill>
        <p:spPr>
          <a:xfrm>
            <a:off x="611280" y="476280"/>
            <a:ext cx="7532640" cy="602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billy death nurs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Billy’s death</a:t>
            </a:r>
            <a:endParaRPr b="0" lang="en-US" sz="4400" spc="-1" strike="noStrike">
              <a:solidFill>
                <a:srgbClr val="d1d1cb"/>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k, institutional, harsh light on Billy, red blood, nurses white uniform reinforces the horrible event and the coldness of the nurses behaviour and response to his death – heightens audience response to his death and to her appalling causing of it – her motives and methods hit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ead mac"/>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c’s death</a:t>
            </a:r>
            <a:endParaRPr b="0" lang="en-US" sz="4400" spc="-1" strike="noStrike">
              <a:solidFill>
                <a:srgbClr val="d1d1cb"/>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s death on the other hand, while still quite violent in nature, does not seem like this to us. The soft shadows and nighttime lighting reinforce the idea of the ‘spirit world’ as Chief Brombden suffocates Mac in order to free his spirit from his lobotomised state and ‘take’ him with him to Cana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cenes to compare</a:t>
            </a:r>
            <a:endParaRPr b="0" lang="en-US" sz="4400" spc="-1" strike="noStrike">
              <a:solidFill>
                <a:srgbClr val="d1d1cb"/>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start and e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hospital with the fishing tr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the start &amp; end of the fishing tr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 Billy’s death with Ma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washstand final scene"/>
          <p:cNvPicPr/>
          <p:nvPr/>
        </p:nvPicPr>
        <p:blipFill>
          <a:blip r:embed="rId1"/>
          <a:stretch/>
        </p:blipFill>
        <p:spPr>
          <a:xfrm>
            <a:off x="1143000" y="6858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8" descr="PDVD_011"/>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tart</a:t>
            </a:r>
            <a:endParaRPr b="0" lang="en-US" sz="4400" spc="-1" strike="noStrike">
              <a:solidFill>
                <a:srgbClr val="d1d1cb"/>
              </a:solidFill>
              <a:latin typeface="Arial"/>
            </a:endParaRPr>
          </a:p>
        </p:txBody>
      </p:sp>
      <p:sp>
        <p:nvSpPr>
          <p:cNvPr id="58" name="PlaceHolder 2"/>
          <p:cNvSpPr>
            <a:spLocks noGrp="1"/>
          </p:cNvSpPr>
          <p:nvPr>
            <p:ph/>
          </p:nvPr>
        </p:nvSpPr>
        <p:spPr>
          <a:xfrm>
            <a:off x="324000" y="2420640"/>
            <a:ext cx="8362800" cy="3600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wn ‘natural’ light – Establishing shot at start matches final shot at end.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lhouette of mountains and open spaces. Dark, soft colours and lighting, shadows = unknown but not bad/forebo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PDVD_007"/>
          <p:cNvPicPr/>
          <p:nvPr/>
        </p:nvPicPr>
        <p:blipFill>
          <a:blip r:embed="rId1"/>
          <a:stretch/>
        </p:blipFill>
        <p:spPr>
          <a:xfrm>
            <a:off x="1143000" y="457200"/>
            <a:ext cx="685800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907560"/>
            <a:ext cx="8075520" cy="518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End</a:t>
            </a:r>
            <a:br>
              <a:rPr sz="4000"/>
            </a:br>
            <a:r>
              <a:rPr b="0" lang="en-US" sz="4000" spc="-1" strike="noStrike">
                <a:solidFill>
                  <a:srgbClr val="d1d1cb"/>
                </a:solidFill>
                <a:latin typeface="Arial"/>
              </a:rPr>
              <a:t>Dusk ‘natural’ blue light –similar to establishing shot at start </a:t>
            </a:r>
            <a:br>
              <a:rPr sz="4000"/>
            </a:br>
            <a:br>
              <a:rPr sz="4000"/>
            </a:br>
            <a:r>
              <a:rPr b="0" lang="en-US" sz="4000" spc="-1" strike="noStrike">
                <a:solidFill>
                  <a:srgbClr val="d1d1cb"/>
                </a:solidFill>
                <a:latin typeface="Arial"/>
              </a:rPr>
              <a:t>A silhouette of mountains and open spaces. Dark, soft blue colours and lighting, shadows = unknown but not bad/foreboding.</a:t>
            </a:r>
            <a:br>
              <a:rPr sz="4000"/>
            </a:br>
            <a:br>
              <a:rPr sz="4000"/>
            </a:br>
            <a:br>
              <a:rPr sz="4000"/>
            </a:br>
            <a:endParaRPr b="0" lang="en-US" sz="40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274680"/>
            <a:ext cx="8435880" cy="589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Should be considered as working with the music. </a:t>
            </a:r>
            <a:br>
              <a:rPr sz="4400"/>
            </a:br>
            <a:r>
              <a:rPr b="0" lang="en-US" sz="4400" spc="-1" strike="noStrike">
                <a:solidFill>
                  <a:srgbClr val="d1d1cb"/>
                </a:solidFill>
                <a:latin typeface="Arial"/>
              </a:rPr>
              <a:t>(Indian flute and drum at start compared with very rousing orchestral music giving way to Indian flute and drum at end)</a:t>
            </a:r>
            <a:br>
              <a:rPr sz="4400"/>
            </a:b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22:53:14Z</dcterms:created>
  <dc:creator>default_user</dc:creator>
  <dc:description/>
  <dc:language>en-US</dc:language>
  <cp:lastModifiedBy>lotush</cp:lastModifiedBy>
  <dcterms:modified xsi:type="dcterms:W3CDTF">2010-07-30T02:46:08Z</dcterms:modified>
  <cp:revision>19</cp:revision>
  <dc:subject/>
  <dc:title>CUCKOO’S NEST</dc:title>
</cp:coreProperties>
</file>